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91B-563A-4CA3-AFC6-FA427620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36D-C0C0-46E1-9AEF-86CFC4B0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4C2-9BAF-4948-8DAF-7695975F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C0C-3CF4-460A-9FD4-F145F124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872E-2339-48F6-A8A7-D33C6231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6F18-743E-4FD2-9DA1-E69915E5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71A8-30E1-446D-9F56-5174D103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9CDE-0006-4BC3-9679-4D72A1E1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BCB7-64BB-4F67-B2A7-358277BC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0910-9CE3-4859-B9D8-B5780B1D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0F89-B60A-461C-B8DD-AFD00250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F16-87FD-4B68-9268-08D26B92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9063-EF2B-4ACC-B8D1-59F93602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E0AB-9E38-4643-BC0D-B98D5413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801F-E37D-40C9-B216-A4A00CBB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4700-C63C-41DA-B166-504A4515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D8F8-F392-4C78-9C29-3CE6C92F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054-F122-4CEA-81BD-B4762A43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9A2-B0A1-49E8-9106-4C95EFE2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32C-1B96-4026-9FA8-881FC940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E52-A8C3-460F-8D59-2B6451C3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AD1-3619-43F1-A393-8B57DA9C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B4F-2783-4BEF-A458-818C248B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383-2365-4FA0-8916-3EF9E661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B391-A15B-4123-8539-9D3468F43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D342-3D7A-43C1-A7E5-8E4FE470D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ibrary Syste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anion’s Alexandr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spr’s LibraryWor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304920" y="5181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ationale for switching from Alexandria to Library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re secure and reliab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to back-up our Alexandria library files on our own each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yWorld performs back-ups of the library catalog for us each night and keeps multiple back-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95680" y="4419720"/>
            <a:ext cx="2141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inless Trans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yWorld converts Marc records from Alexandria to LibraryWorld f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simply export records from Alexandria and import them into Library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braryWorld incl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30 day free trial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uarantee satisf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05520" y="4800600"/>
            <a:ext cx="304776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braryWorld=More For L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yWorld enables librarians to spend more time with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expensive with more features, including online 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th LibraryWorld, we will get a better library automation system for less mone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braryWorld 2.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30 Apr. 2009 &lt;http://www.libraryworld.com/cgi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n/lw2.pl?command=home&gt;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brary Automation Software- Alexandria Library Management Software Syste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30 Apr. 2009 &lt;http://www.goalexandria.com/&gt;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est Val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oday’s economy, we want to make sure we have the best library system available for the lowest pr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124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lexandria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ibraryWor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$499 per ye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 online access included in pr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mited to one us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$365 per ye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line access included in pr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mitless us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spend $499 on Alexandria and $50 on SmartMarc (Marc records) each yea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= $54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yWorld includes access to Marc records and only costs $365 each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: $36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77120" y="5486400"/>
            <a:ext cx="1523880" cy="120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19320" y="4876920"/>
            <a:ext cx="67053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switching to LibraryWorld,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save $184 each yea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Like Alexandria, LibraryWorld includes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 circulation system with check-in, check-out, renew, hold, and reserve fea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aloging, inventory, patron management, serial tracking, inventory, reports, permissions and settings, and patron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work with or without a barcode r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ing and editing MARC catalog records from Library of Congress or other coll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ting of book spine labels, letters, notices, lists, and repo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xing and searchability of all words in catalog recor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support via e-mail and toll-free 800 nu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Unlike Alexandria, LibraryWorld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 available features are included in the price (other features from Alexandria cost extr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versions are available automatically (do not cost more) and announcements of the updates are made on library’s management home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05720" y="4724280"/>
            <a:ext cx="1671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lexandria= limited catalog ac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Alexandria, the library catalog can only be accessed from the school library.  There is no online access included in the price we p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352680" y="36576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braryWorld= universal ac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ice for LibraryWorld include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line acc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the library cata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s and students can access the library catalog from the library, classrooms, home,…anywhe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00600" y="4419720"/>
            <a:ext cx="2141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braryWorld=User Friendl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 Alexandria, LibraryWorld is user friendly and has Google-like search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as the price we pay for Alexandria only allows one user to manage the library catalog, LibraryWorld allows for unlimited u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for multiple libraries to be combined into a dynamic union catalog that enables multi-library searching and sharing  of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24480" y="5334120"/>
            <a:ext cx="1467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4:48:12Z</dcterms:created>
  <dc:creator>mpatterson</dc:creator>
  <dc:description/>
  <dc:language>en-US</dc:language>
  <cp:lastModifiedBy>NHS</cp:lastModifiedBy>
  <dcterms:modified xsi:type="dcterms:W3CDTF">2009-05-03T03:48:35Z</dcterms:modified>
  <cp:revision>9</cp:revision>
  <dc:subject/>
  <dc:title>Library Systems</dc:title>
</cp:coreProperties>
</file>